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A79C-1781-4D66-9335-4D4C6534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A37-E4D0-49D2-88A3-E72710FA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FBF-E927-4951-9B8F-747FBBE0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870-F74B-4474-9983-A8A47222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073-C373-4A09-B75F-4AB53D22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B16-181D-43B3-B61D-ABD57555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5907-24EB-4CC8-B36B-A40DB25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5CBC-1732-4914-A886-A6139DB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694-9931-4D63-B488-F97AC48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BFE-BD26-45A8-88A2-EED38A56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CE6B-6BB8-4167-8198-35ACD90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8B36-3300-4732-82C5-B80FC27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BCB-6B78-4ACF-8D22-F77E18B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4427-43D5-4EB3-89CA-F29D8BD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434-8246-4E54-8E10-560A9F5E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2D4F-1409-405A-8791-9371B44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1FEA-1E86-4529-AEEC-E4784FBD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938F-EAEE-4BC5-8591-D9DB2B89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6E3-1EB9-4CA8-AC1C-C1E0FD6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FC2-063E-4FD5-9AE6-A948A727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205-B447-4BFA-A532-5D98291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517-0DF5-448D-B099-0434FCF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251-95FC-4C8C-9886-2570241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61D-D87B-48D4-B6BB-4E12A1D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F1A-9151-4AE0-98B1-CAC5A6C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FC6A-EFCB-43B0-8896-894D6FF8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321-5D1E-4DC3-BDC3-091782F8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goda.com/" TargetMode="External"/><Relationship Id="rId2" Type="http://schemas.openxmlformats.org/officeDocument/2006/relationships/hyperlink" Target="http://www.hyatt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2600" y="30715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uest Market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lior_Business_School.PNG"/>
          <p:cNvPicPr/>
          <p:nvPr/>
        </p:nvPicPr>
        <p:blipFill>
          <a:blip r:embed="rId1"/>
          <a:stretch/>
        </p:blipFill>
        <p:spPr>
          <a:xfrm>
            <a:off x="2714760" y="357120"/>
            <a:ext cx="327312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agoda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pricing OR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27:05Z</dcterms:modified>
  <cp:revision>100</cp:revision>
  <dc:subject/>
  <dc:title>FRONT OFFICE OPERATIONS MANAGEMENT</dc:title>
</cp:coreProperties>
</file>